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F0F7-AE5A-4B5E-A6F9-AC0BF64C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0A5-0360-4ED0-BE19-EC969219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343D-EB60-4A31-86F7-AD093DE75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3F8-CAB9-4877-9EAD-001D7BD4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A0F6-4DB1-4F6B-A16F-762EC82F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58B2-F243-433F-9B15-2B25C456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FB2C-7CA9-48CF-9F6A-C9DEFDCA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D356-7CAB-428E-9AEF-D5936D3D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36C5-42E3-4309-B2E7-9319A4CA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297A-DE06-4ED8-9AD0-13EF88A1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B0A7-3BD4-42D1-8182-F83905A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9AB-7749-42E0-80F9-39F7077D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17BC-007B-47B3-A0CF-C4F6FC08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6DE6-0A34-48FC-9C3F-52E6EDE0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4047-8EE8-4EF5-854B-3BA38FB4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9900-A385-4EC5-A18E-CB11CFBD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7850-48A5-44F1-8638-D0B73B42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C54-5B29-439F-8EBB-2F3DB10E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2F7-679F-45FA-B470-C9AD5C9F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2FA-C1E9-40A3-AA24-DC96D13E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201-255F-4E4F-8674-C52C205B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0D5C-7F47-48F8-9FD2-61EF8EC4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367-1AD4-427F-B462-4AD40428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FEC-CD6B-4318-8DEF-B363C3C8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54F9-074B-4036-84D7-E8FCE1732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75F6-09C6-473A-9CA4-05294D90A48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hinkexist.com/quotation/if_you_can-t_take_the_heat-don-t_tickle_the/339980.html" TargetMode="External"/><Relationship Id="rId2" Type="http://schemas.openxmlformats.org/officeDocument/2006/relationships/hyperlink" Target="http://thinkexist.com/quotation/if_you_can-t_take_the_heat-don-t_tickle_the/339980.html" TargetMode="External"/><Relationship Id="rId3" Type="http://schemas.openxmlformats.org/officeDocument/2006/relationships/hyperlink" Target="http://thinkexist.com/quotation/if_you_can-t_take_the_heat-don-t_tickle_the/339980.html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oks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teresting ways to start your essay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resting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ave you ever wondered if a Dragon could kill a Monster in a figh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o you believe Dragons and Monsters are real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long can a Dragon or Monster live? According to my research, I’ve discovered that they can live for hundreds of years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um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I was little, I peed my pants in my sleep because I was so scared of the Monsters under my b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resting Stat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ragons and Monsters are some of the most interesting imaginary creatures in the worl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millions of different kinds of Dragons and Monster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o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If you can't take the heat, don't tickle the 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dragon</a:t>
            </a: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” (anonymous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eddle not in the affairs of the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drag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; for you are crunchy and taste good with ketchup.” (anonymou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ver 5 million children in the world believe in Dragons and Monste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 2007, another Harry Potter movie came out and made Dragons and Monsters popular agai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ecdo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I was little, I used to dream about flying on the back of a Drag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I was 5 years old, I got to be a Dragon for Halloween. I ran around, pretending to blow fire on people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21:21:15Z</dcterms:created>
  <dc:creator>SCUSD</dc:creator>
  <dc:description/>
  <dc:language>en-US</dc:language>
  <cp:lastModifiedBy>Chrissi Ritzius</cp:lastModifiedBy>
  <dcterms:modified xsi:type="dcterms:W3CDTF">2010-05-24T15:31:32Z</dcterms:modified>
  <cp:revision>3</cp:revision>
  <dc:subject/>
  <dc:title>Hooks!!</dc:title>
</cp:coreProperties>
</file>